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D76-79B1-4631-9CC9-A8EF0AF3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EA2-1FED-4DD7-91C0-B1A0CA0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CBF-C137-46D9-91E6-AF961B7C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91C-BF8A-4A4B-8986-68C0F5AF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464-60E4-4C4D-9C5B-18C1A9F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39F-466C-4982-96BF-1CD0C95A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A19-6F0C-4782-B92A-3061321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F46-9C1E-4B7B-87E1-DE743AE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46D-0D9A-4A36-8DC1-3E1D17A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754-386F-4709-A8AE-B428A48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B27-3C1D-4D7F-94F4-E6958BB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8F2-B90A-4EDF-8594-0E55151E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B2D4-BC53-4D4D-88B8-C19AAE574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____  Clase 701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 de octu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hora vas a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b050"/>
                </a:solidFill>
                <a:latin typeface="Arial"/>
              </a:rPr>
              <a:t>L.O: to recall last yea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A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la palabra correc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"/>
              </a:rPr>
              <a:t>B.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ga los 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Sac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2. Escuchar   3. Tom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4.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52280" y="3144960"/>
            <a:ext cx="3200400" cy="2265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981080" y="3352680"/>
            <a:ext cx="68580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1590480" cy="131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6934320" y="3429000"/>
            <a:ext cx="19047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es esc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30176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7364520" y="1447920"/>
            <a:ext cx="10936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1676520" y="1752480"/>
            <a:ext cx="1685880" cy="1544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76320" y="3505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uad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828800" y="323064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ápi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86200" y="2819520"/>
            <a:ext cx="1371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lu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429000" y="3352680"/>
            <a:ext cx="1676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lígra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562720" y="3200400"/>
            <a:ext cx="1143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lib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086600" y="312408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mochi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6"/>
          <a:stretch/>
        </p:blipFill>
        <p:spPr>
          <a:xfrm>
            <a:off x="76320" y="4038480"/>
            <a:ext cx="1828800" cy="178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7"/>
          <a:stretch/>
        </p:blipFill>
        <p:spPr>
          <a:xfrm>
            <a:off x="189540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152280" y="597384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Carp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8"/>
          <a:stretch/>
        </p:blipFill>
        <p:spPr>
          <a:xfrm>
            <a:off x="4648320" y="420372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9"/>
          <a:stretch/>
        </p:blipFill>
        <p:spPr>
          <a:xfrm>
            <a:off x="7105680" y="3809880"/>
            <a:ext cx="150480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4572000" y="5668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Borrador / G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7086600" y="5897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Verdana"/>
              </a:rPr>
              <a:t>Pap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s verbos “YO”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R, DAR y 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Ir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of the most irregular verbs in the Spanish language.  It is a verb you must memor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a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gi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s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feeling, location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jugated in the same way as regular –AR verbs in all forms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 ella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5268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42900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5053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0400" y="50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35268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290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257800" y="5500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334120" y="41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410080" y="4586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5029200" y="50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25780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2578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934320" y="36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010280" y="4114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086600" y="4572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705720" y="5029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858000" y="5500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934320" y="5867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257800" y="32907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Dar        </a:t>
            </a:r>
            <a:r>
              <a:rPr b="1" lang="es-ES_tradnl" sz="2800" spc="-1" strike="noStrike">
                <a:solidFill>
                  <a:srgbClr val="660066"/>
                </a:solidFill>
                <a:latin typeface="Verdana"/>
              </a:rPr>
              <a:t>Estar</a:t>
            </a:r>
            <a:r>
              <a:rPr b="1" lang="es-ES_tradnl" sz="2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preposición “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“to, toward”. This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follows the verb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“i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When the prepositio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llowed by the definite articl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“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words “contract” to form one word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”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ll other definite articles they stay as two separat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el parque.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 t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y a los par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1066680" y="3809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1143000" y="38862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116600" y="380988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265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OS VERBOS IR, DAR, 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8:02Z</dcterms:created>
  <dc:creator>Helen Zumaeta</dc:creator>
  <dc:description/>
  <dc:language>en-US</dc:language>
  <cp:lastModifiedBy>Helen Zumaeta</cp:lastModifiedBy>
  <dcterms:modified xsi:type="dcterms:W3CDTF">2015-10-02T17:24:16Z</dcterms:modified>
  <cp:revision>13</cp:revision>
  <dc:subject/>
  <dc:title>Me llamo _______ Clase 6nh/im La fecha es el 24 de enero del 2011</dc:title>
</cp:coreProperties>
</file>